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26B4-352B-449D-AB1A-445DA7E18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B4AE-45D3-4BB1-BC4B-9432DF7B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C897-6934-4032-836B-188DC6559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3A42-A347-4397-8452-94E9442E2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C7DD-450D-492D-B833-AA1F065ED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BC7D-A2E9-440C-A24C-638E5286B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E860-47D6-46F7-886D-3D3D54E3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917FC-1828-4E85-84B9-D1B62D9E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4C00-6F5D-4505-A2A9-0862FA49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7D0B8-88DA-4190-B40A-2F440616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0ABAC-EA40-4F6E-BC01-B706DCA6C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C3C2-8D44-4E02-9B2F-A53B43CBC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A2A7-DAF3-44F2-B8F8-74CF2266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BFC0-C318-4537-AFCA-9519EE46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2DB48-1C61-4DD3-A6E2-7CF48FBEC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5D125-514A-470C-8995-DA82B131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584D-D9AC-41F2-B196-DC4916F3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12B42-492B-4C17-82BA-EE81CB5D7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73E62-CEED-4D3F-AA6B-52072A1C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39C01-BE64-4248-BECA-AA0C9EF2A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8B3821-F86C-4583-AA32-644EFAD0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0836BD-DA4C-406F-893A-F84E31E6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9114-3069-4D30-9CAD-5BF56FA6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32A5E-69DE-4AE8-84FB-A689CC14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19FEE-B8A5-4DA8-A8DE-555437B18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7236A-FCA0-4B86-80FA-5C9615F4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5ECE6D-EABC-42F6-B897-781D8CA0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754DD-78A1-4839-9511-A94888F48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7C6C1-C40F-494E-ACB6-EE5EBE35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CC20F-68C1-498F-9EC1-AA5EAB425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B1CAD-9A09-483D-BDE0-0B9DD109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2C967-8080-4122-81A5-156F7A042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03FF1-3C7F-47D8-BE89-DBD602F89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9546-F1CB-4C3D-8B78-449E3044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33E95-2584-489B-8D3C-73ABFE6C5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58310-3D3A-4D4E-A64B-EB097F144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A007B-7638-48AD-8B5F-A6F48BB2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ED8349-89F9-4396-AD97-38878526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09B31-5CA8-4D6C-BB80-15F17D24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B9462-4763-4F58-8153-6B2CFD07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433DC-9781-4AB3-B810-B49287F21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CCA55-7ED7-4430-86FD-C0DBEF77C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878F6-2BF4-4E74-BC6C-FE6378950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BBEA5-FC51-46CF-9E43-EEAF9F9C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D8CD-7DE2-4213-87EA-0A712226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0B80E-F5A0-4379-920C-75247704C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7130A9-3D74-4335-BE3F-A4B72C4F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5FD53-6D9D-40F8-87C4-E4D3B3C5E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AE882-3DAF-41C8-9510-64523CF18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A20B3-4EEA-4A1C-BAD5-7DE8E0747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949E2-9F47-4DE8-95BC-8D6AF0AF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8C4EE-ABA7-4500-88F3-61AD6451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6E72D2-CB87-4129-9007-E2771360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58560-DCE9-4BFF-AC84-83D0BB5A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0DC34C-705F-4F84-BD04-91238681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59BF-05A0-4372-92B6-51CCD5CD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91208-38F9-4E7A-A203-57FA90228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18A8D-7344-4C98-92DD-5E0887AC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A5FEE7-6C1D-4415-AF8D-8024CCDB8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3CF7D4-DE4C-448A-9D07-1FA0F1B9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58A89D-3EBD-43CE-8150-F1E2D9A0F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485F39-DE0C-4B2C-AC73-26D074FD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3C436-6F2C-4622-905D-1E117F76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C9DD9-9B31-49DA-BED4-D5C910FB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210F1D-29EF-443C-A0AC-4CE3F073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3D72D-332D-4CE8-A418-C4823806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95AB-F0A7-43CE-BB8F-A31ED7A8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31DE6-E374-4050-8772-0D3B3C64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8CB6B5-BBEF-4F8B-9E28-DFBEEF77F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A019F-2495-4146-88F8-6A8F34E50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2DAA-23BC-40F8-B4A5-D0A453A3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D2C0-D6B8-4FAE-9B54-AB1E2301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37F3-A84E-48C8-A13F-03BA50FBF72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F5DDD-EC61-457E-80AE-4C42647D53A6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5AAA-E63C-41A5-A8E4-6175CD5D827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2F65-1E1E-4610-9B5D-C5FA9830AF6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B0703-B08F-451E-9FA9-969CD234BB1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F08B-DBA4-4DF6-976C-7C8CBC31413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bf5f9"/>
                </a:solidFill>
                <a:latin typeface="Arial"/>
              </a:rPr>
              <a:t>PLANT TISSU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ending on the function they perform, we distinguish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hizodermis - parenchyma for absorption of water and mineral substan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lorenchyma - parenchyma for photosynthesi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enchyma for storing reserve substances (for storing nutrients - proteins, fats), aerenchyma, parenchyma for storing water..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20" name="Object 10"/>
          <p:cNvGraphicFramePr/>
          <p:nvPr/>
        </p:nvGraphicFramePr>
        <p:xfrm>
          <a:off x="5791320" y="533520"/>
          <a:ext cx="2527200" cy="10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533520"/>
                    <a:ext cx="252720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13"/>
          <p:cNvGraphicFramePr/>
          <p:nvPr/>
        </p:nvGraphicFramePr>
        <p:xfrm>
          <a:off x="5791320" y="1752480"/>
          <a:ext cx="2552760" cy="13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752480"/>
                    <a:ext cx="255276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17"/>
          <p:cNvGraphicFramePr/>
          <p:nvPr/>
        </p:nvGraphicFramePr>
        <p:xfrm>
          <a:off x="5791320" y="3200400"/>
          <a:ext cx="2552760" cy="148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5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3200400"/>
                    <a:ext cx="25527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18"/>
          <p:cNvGraphicFramePr/>
          <p:nvPr/>
        </p:nvGraphicFramePr>
        <p:xfrm>
          <a:off x="5791320" y="5029200"/>
          <a:ext cx="2552760" cy="129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7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1320" y="5029200"/>
                    <a:ext cx="25527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ECHANICAL TISSU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maintain the shape of the plant bod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ells have a thickened cell w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types of mechanical tissu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aaf2"/>
                </a:solidFill>
                <a:latin typeface="Arial"/>
              </a:rPr>
              <a:t>COLLENHY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in the young parts of the plant,i.e. in organs that are still grow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aaf2"/>
                </a:solidFill>
                <a:latin typeface="Arial"/>
              </a:rPr>
              <a:t>SCLERENCHY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in the parts of the plant that arefinished grow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COMPLEX PERMANENT TISSUES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ROTECTIVE TISS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direct contact with the external enviro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x tissues - they are built by different types of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uble functio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protecti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communication (stomes, lenticels, nectaries..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1" lang="sr-CS" sz="3600" spc="-1" strike="noStrike">
                <a:solidFill>
                  <a:srgbClr val="660066"/>
                </a:solidFill>
                <a:latin typeface="Arial"/>
              </a:rPr>
              <a:t>1.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PYDERMI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228600" y="251424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ted on the surface of the plant body (leaves, flower part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sts of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pidermal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pecialized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35" name="Object 5"/>
          <p:cNvGraphicFramePr/>
          <p:nvPr/>
        </p:nvGraphicFramePr>
        <p:xfrm>
          <a:off x="5562720" y="4343400"/>
          <a:ext cx="265428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4343400"/>
                    <a:ext cx="265428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Object 10"/>
          <p:cNvGraphicFramePr/>
          <p:nvPr/>
        </p:nvGraphicFramePr>
        <p:xfrm>
          <a:off x="1295280" y="4856040"/>
          <a:ext cx="2578320" cy="200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856040"/>
                    <a:ext cx="257832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457200" y="152280"/>
            <a:ext cx="82296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EPYDERM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80880" y="121932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Plant Tissues | Biology 343 – Plants and People"/>
          <p:cNvPicPr/>
          <p:nvPr/>
        </p:nvPicPr>
        <p:blipFill>
          <a:blip r:embed="rId1"/>
          <a:stretch/>
        </p:blipFill>
        <p:spPr>
          <a:xfrm>
            <a:off x="1676520" y="205740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0066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PERIDER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ective lay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found on the surface of older parts of plan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dually replaces the epidermis - the green color changes to brow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44" name="Object 7"/>
          <p:cNvGraphicFramePr/>
          <p:nvPr/>
        </p:nvGraphicFramePr>
        <p:xfrm>
          <a:off x="4267080" y="2286000"/>
          <a:ext cx="1613160" cy="35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286000"/>
                    <a:ext cx="161316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6"/>
          <p:cNvGraphicFramePr/>
          <p:nvPr/>
        </p:nvGraphicFramePr>
        <p:xfrm>
          <a:off x="5943600" y="2514600"/>
          <a:ext cx="2971800" cy="279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2514600"/>
                    <a:ext cx="297180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8"/>
          <p:cNvSpPr/>
          <p:nvPr/>
        </p:nvSpPr>
        <p:spPr>
          <a:xfrm>
            <a:off x="228600" y="685800"/>
            <a:ext cx="4191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LENTIC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" y="4648320"/>
            <a:ext cx="7315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s on the periderm instead of compact tissue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made of spherical cells with an intercellular space between them - air passes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s where there were stomas on the epider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Object 10"/>
          <p:cNvGraphicFramePr/>
          <p:nvPr/>
        </p:nvGraphicFramePr>
        <p:xfrm>
          <a:off x="3352680" y="914400"/>
          <a:ext cx="4343400" cy="33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914400"/>
                    <a:ext cx="4343400" cy="33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VASCULAR TISS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the conduction of matter through all parts of the plant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takes place in two directio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IRATION FLOW – transport of water and minerals from the roots to the lea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MILATION FLOW - transport of substances created in the process of photosynthesis from the leaves to the roo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ypes of tissu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Xyl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Phlo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4" name="Picture 5" descr="Complex permanent tissue - xylem — lesson. Science State Board, Class 9."/>
          <p:cNvPicPr/>
          <p:nvPr/>
        </p:nvPicPr>
        <p:blipFill>
          <a:blip r:embed="rId1"/>
          <a:stretch/>
        </p:blipFill>
        <p:spPr>
          <a:xfrm>
            <a:off x="5372280" y="4648320"/>
            <a:ext cx="28191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ECRETORY SYSTE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retory cells can be single or in grou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thin primary cell w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e different secretions - solid or liquid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retes them from the outside (EXOGENEOUS secretory cells) or collects them in its body (ENDOGENEOUS secretory cell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193464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cellular organisms - unicellular alga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ellular organis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8" name="Picture 5" descr="Multicellular and Unicellular Organisms - Differences and Examples"/>
          <p:cNvPicPr/>
          <p:nvPr/>
        </p:nvPicPr>
        <p:blipFill>
          <a:blip r:embed="rId1"/>
          <a:srcRect l="0" t="52463" r="0" b="0"/>
          <a:stretch/>
        </p:blipFill>
        <p:spPr>
          <a:xfrm>
            <a:off x="1371600" y="3657600"/>
            <a:ext cx="6197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8" name="Picture 8" descr="Secretory Tissue in Plants + PPT | Easy Biology Class"/>
          <p:cNvPicPr/>
          <p:nvPr/>
        </p:nvPicPr>
        <p:blipFill>
          <a:blip r:embed="rId1"/>
          <a:srcRect l="0" t="12721" r="45035" b="0"/>
          <a:stretch/>
        </p:blipFill>
        <p:spPr>
          <a:xfrm>
            <a:off x="457200" y="1905120"/>
            <a:ext cx="4648320" cy="4703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0" descr="Secretory tissues in Plants || Resins, gums, tannins, mucilage, Latex -  YouTube"/>
          <p:cNvPicPr/>
          <p:nvPr/>
        </p:nvPicPr>
        <p:blipFill>
          <a:blip r:embed="rId2"/>
          <a:srcRect l="0" t="13606" r="0" b="15643"/>
          <a:stretch/>
        </p:blipFill>
        <p:spPr>
          <a:xfrm>
            <a:off x="5410080" y="2514600"/>
            <a:ext cx="3733920" cy="198108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nt t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group of morphologically and physiologically identical cells with a structure and function different from other cells of the same organis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t tissues build both living and dead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Plant tissue | Types Of Plant Tissue System &amp; Their Function"/>
          <p:cNvPicPr/>
          <p:nvPr/>
        </p:nvPicPr>
        <p:blipFill>
          <a:blip r:embed="rId2"/>
          <a:stretch/>
        </p:blipFill>
        <p:spPr>
          <a:xfrm>
            <a:off x="355680" y="1066680"/>
            <a:ext cx="878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0556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ff0000"/>
                </a:solidFill>
                <a:uFillTx/>
                <a:latin typeface="Arial"/>
              </a:rPr>
              <a:t>1.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MERISTEMIC TISS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560" y="1935000"/>
            <a:ext cx="464796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s of the plant body in which cells are constantly dividing are called MERISTE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are parenchymatous in shape, with only a primary cell wall, dense cytoplasm, small vacuoles and plastids at the proplastid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ertain number of meristem cells retain their embryonic character throughout the life of the pla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06" name="Object 9"/>
          <p:cNvGraphicFramePr/>
          <p:nvPr/>
        </p:nvGraphicFramePr>
        <p:xfrm>
          <a:off x="5943600" y="1447920"/>
          <a:ext cx="2736720" cy="26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447920"/>
                    <a:ext cx="2736720" cy="26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11"/>
          <p:cNvGraphicFramePr/>
          <p:nvPr/>
        </p:nvGraphicFramePr>
        <p:xfrm>
          <a:off x="6019920" y="4114800"/>
          <a:ext cx="2895480" cy="27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411480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ording to their position in the plant, meristems can b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5" descr="Learn About Location Of Plant Tissue | Chegg.com"/>
          <p:cNvPicPr/>
          <p:nvPr/>
        </p:nvPicPr>
        <p:blipFill>
          <a:blip r:embed="rId1"/>
          <a:stretch/>
        </p:blipFill>
        <p:spPr>
          <a:xfrm>
            <a:off x="1752480" y="2362320"/>
            <a:ext cx="48913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ff0000"/>
                </a:solidFill>
                <a:uFillTx/>
                <a:latin typeface="Arial"/>
              </a:rPr>
              <a:t>2.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PERMANENT TISS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s of these tissues are specialized to perform a specific 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s of these tissues usually do not have the ability to divi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SIMPLE TISSU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nsist of only one type of cells. We include:1) parenchyma 2) mechanical tissues - collenchyma and sclerenchy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COMPLEX TISSU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ntain more than one type of cell. They build three systems:1) subdermal system - epidermis and periderm 2) conducting system - phloem and xylem 3) secretory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6" descr=""/>
          <p:cNvPicPr/>
          <p:nvPr/>
        </p:nvPicPr>
        <p:blipFill>
          <a:blip r:embed="rId1"/>
          <a:stretch/>
        </p:blipFill>
        <p:spPr>
          <a:xfrm>
            <a:off x="450720" y="2206800"/>
            <a:ext cx="82425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sr-C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PARENCHYMAL TISS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30592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the basic mass of the plant bod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s of parenchymal tissu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thin primary cell wa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ytoplasm are plastids and a large vacuo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s retain the ability to divid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17" name="Object 6"/>
          <p:cNvGraphicFramePr/>
          <p:nvPr/>
        </p:nvGraphicFramePr>
        <p:xfrm>
          <a:off x="1981080" y="4343400"/>
          <a:ext cx="4724640" cy="24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343400"/>
                    <a:ext cx="472464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07:13:33Z</dcterms:created>
  <dc:creator>prodekan 01</dc:creator>
  <dc:description/>
  <dc:language>en-US</dc:language>
  <cp:lastModifiedBy>Korisnik</cp:lastModifiedBy>
  <dcterms:modified xsi:type="dcterms:W3CDTF">2022-10-03T13:34:31Z</dcterms:modified>
  <cp:revision>192</cp:revision>
  <dc:subject/>
  <dc:title>HROMOZOMSKE ABERACIJE</dc:title>
</cp:coreProperties>
</file>